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gif" ContentType="image/gif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F8B6-B97F-4AF4-9582-3BCBF61E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2EBD-F9BB-479A-8A27-31D37ADE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528-67FA-419D-B350-382E5E09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8852-B546-4E74-8B74-AF9C9EB5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3C4-8C3E-42F7-B28F-530FB02C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EB3A-35F7-4BE7-BA32-E1553B3B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0ADF-2AB7-4E01-9CD6-96581195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E6D-6CE5-401E-A2B9-6A540C90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DD7B-D092-429F-80F1-E91E417A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B8A0-922D-4657-8038-9F03C673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222B-376B-4E07-B1D7-1BBE0E11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A0CC-3B73-48D9-9AEE-DEF624ED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D22D-34A2-441D-BF33-24DD541DD76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.baidu.com/i?ct=503316480&amp;z=0&amp;tn=baiduimagedetail&amp;word=&#809;&#637;%C4%CF%CC%EC%C3%C5&amp;in=5&amp;cl=2&amp;cm=1&amp;sc=0&amp;lm=-1&amp;pn=4&amp;rn=1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108000" y="1052640"/>
            <a:ext cx="6335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latin typeface="隶书"/>
              </a:rPr>
              <a:t>大数知多少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ccff"/>
              </a:solidFill>
              <a:latin typeface="隶书"/>
              <a:ea typeface="隶书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187280" y="4157640"/>
            <a:ext cx="64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WordArt 6" descr=""/>
          <p:cNvPicPr/>
          <p:nvPr/>
        </p:nvPicPr>
        <p:blipFill>
          <a:blip r:embed="rId2"/>
          <a:stretch/>
        </p:blipFill>
        <p:spPr>
          <a:xfrm>
            <a:off x="3267000" y="3054240"/>
            <a:ext cx="5853240" cy="749520"/>
          </a:xfrm>
          <a:prstGeom prst="rect">
            <a:avLst/>
          </a:prstGeom>
          <a:ln w="0">
            <a:noFill/>
          </a:ln>
        </p:spPr>
      </p:pic>
      <p:pic>
        <p:nvPicPr>
          <p:cNvPr id="44" name="腾格尔 - 天堂.mp3" descr=""/>
          <p:cNvPicPr/>
          <p:nvPr/>
        </p:nvPicPr>
        <p:blipFill>
          <a:blip r:embed="rId3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62464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1547640" y="4221000"/>
            <a:ext cx="6048720" cy="863640"/>
          </a:xfrm>
          <a:prstGeom prst="rect">
            <a:avLst/>
          </a:prstGeom>
          <a:solidFill>
            <a:srgbClr val="e8a0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6913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4980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5109480" y="4508640"/>
            <a:ext cx="5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39380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529080" y="443700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73672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2938320" y="1052640"/>
            <a:ext cx="2880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0"/>
          <p:cNvSpPr/>
          <p:nvPr/>
        </p:nvSpPr>
        <p:spPr>
          <a:xfrm>
            <a:off x="21240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37828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2"/>
          <p:cNvSpPr/>
          <p:nvPr/>
        </p:nvSpPr>
        <p:spPr>
          <a:xfrm>
            <a:off x="459756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3"/>
          <p:cNvSpPr/>
          <p:nvPr/>
        </p:nvSpPr>
        <p:spPr>
          <a:xfrm>
            <a:off x="541332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622944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5"/>
          <p:cNvSpPr/>
          <p:nvPr/>
        </p:nvSpPr>
        <p:spPr>
          <a:xfrm>
            <a:off x="2700360" y="33336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6"/>
          <p:cNvSpPr/>
          <p:nvPr/>
        </p:nvSpPr>
        <p:spPr>
          <a:xfrm>
            <a:off x="70930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190800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62428E-006 L -0.04531 4.62428E-006 C -0.06562 4.62428E-006 -0.09045 0.14427 -0.09045 0.26196 L -0.09045 0.52416 E">
                                      <p:cBhvr>
                                        <p:cTn id="372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2484360" y="2205000"/>
            <a:ext cx="4465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28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钟表上的秒针跳动一亿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需要用三年多的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others6"/>
          <p:cNvPicPr/>
          <p:nvPr/>
        </p:nvPicPr>
        <p:blipFill>
          <a:blip r:embed="rId2"/>
          <a:stretch/>
        </p:blipFill>
        <p:spPr>
          <a:xfrm>
            <a:off x="7315200" y="380880"/>
            <a:ext cx="107316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539640" y="16286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28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一亿个小学生手拉手可以绕地球三圈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others6"/>
          <p:cNvPicPr/>
          <p:nvPr/>
        </p:nvPicPr>
        <p:blipFill>
          <a:blip r:embed="rId2"/>
          <a:stretch/>
        </p:blipFill>
        <p:spPr>
          <a:xfrm>
            <a:off x="7315200" y="380880"/>
            <a:ext cx="1073160" cy="908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3"/>
          <a:stretch/>
        </p:blipFill>
        <p:spPr>
          <a:xfrm>
            <a:off x="1116000" y="2421000"/>
            <a:ext cx="65530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400"/>
                            </p:stCondLst>
                            <p:childTnLst>
                              <p:par>
                                <p:cTn id="3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0" y="213372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一般情况下</a:t>
            </a:r>
            <a:r>
              <a:rPr b="1" lang="en-US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成年人的头发约有</a:t>
            </a:r>
            <a:r>
              <a:rPr b="1" lang="en-US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10</a:t>
            </a:r>
            <a:r>
              <a:rPr b="1" lang="zh-CN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万根</a:t>
            </a:r>
            <a:r>
              <a:rPr b="1" lang="en-US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11280" y="2997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1000</a:t>
            </a:r>
            <a:r>
              <a:rPr b="1" lang="zh-CN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个正常成年人的头发大约有一亿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others6"/>
          <p:cNvPicPr/>
          <p:nvPr/>
        </p:nvPicPr>
        <p:blipFill>
          <a:blip r:embed="rId2"/>
          <a:stretch/>
        </p:blipFill>
        <p:spPr>
          <a:xfrm>
            <a:off x="7315200" y="380880"/>
            <a:ext cx="107316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1187280" y="148428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方正少儿简体"/>
                <a:ea typeface="方正少儿简体"/>
              </a:rPr>
              <a:t>一（个）、十、百、千、万、十万、百万、千万、亿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都是计数单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1187280" y="315432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99"/>
                </a:solidFill>
                <a:latin typeface="方正少儿简体"/>
                <a:ea typeface="方正少儿简体"/>
              </a:rPr>
              <a:t>个位、十位、百位、千位、万位、十万位、百万位、千万位、亿位</a:t>
            </a: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</a:rPr>
              <a:t>都是数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900000" y="1700280"/>
          <a:ext cx="7413840" cy="151452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487440"/>
                <a:gridCol w="488880"/>
                <a:gridCol w="488880"/>
                <a:gridCol w="488880"/>
                <a:gridCol w="488880"/>
                <a:gridCol w="487440"/>
                <a:gridCol w="488880"/>
                <a:gridCol w="489240"/>
                <a:gridCol w="488880"/>
                <a:gridCol w="488880"/>
                <a:gridCol w="487440"/>
                <a:gridCol w="677880"/>
              </a:tblGrid>
              <a:tr h="151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数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900000" y="3213000"/>
          <a:ext cx="7413840" cy="151308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487440"/>
                <a:gridCol w="488880"/>
                <a:gridCol w="488880"/>
                <a:gridCol w="488880"/>
                <a:gridCol w="488880"/>
                <a:gridCol w="487440"/>
                <a:gridCol w="488880"/>
                <a:gridCol w="489240"/>
                <a:gridCol w="488880"/>
                <a:gridCol w="488880"/>
                <a:gridCol w="487440"/>
                <a:gridCol w="677880"/>
              </a:tblGrid>
              <a:tr h="15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计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单 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一 </a:t>
                      </a:r>
                      <a:r>
                        <a:rPr b="1" lang="zh-CN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（个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Text Box 66"/>
          <p:cNvSpPr/>
          <p:nvPr/>
        </p:nvSpPr>
        <p:spPr>
          <a:xfrm>
            <a:off x="522792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Arial"/>
              </a:rPr>
              <a:t>十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7"/>
          <p:cNvSpPr/>
          <p:nvPr/>
        </p:nvSpPr>
        <p:spPr>
          <a:xfrm>
            <a:off x="472140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Arial"/>
              </a:rPr>
              <a:t>百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8"/>
          <p:cNvSpPr/>
          <p:nvPr/>
        </p:nvSpPr>
        <p:spPr>
          <a:xfrm>
            <a:off x="421668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Arial"/>
              </a:rPr>
              <a:t>千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9"/>
          <p:cNvSpPr/>
          <p:nvPr/>
        </p:nvSpPr>
        <p:spPr>
          <a:xfrm>
            <a:off x="328140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Arial"/>
              </a:rPr>
              <a:t>十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0"/>
          <p:cNvSpPr/>
          <p:nvPr/>
        </p:nvSpPr>
        <p:spPr>
          <a:xfrm>
            <a:off x="277668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Arial"/>
              </a:rPr>
              <a:t>百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1"/>
          <p:cNvSpPr/>
          <p:nvPr/>
        </p:nvSpPr>
        <p:spPr>
          <a:xfrm>
            <a:off x="227340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Arial"/>
              </a:rPr>
              <a:t>千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2"/>
          <p:cNvSpPr/>
          <p:nvPr/>
        </p:nvSpPr>
        <p:spPr>
          <a:xfrm>
            <a:off x="227340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Arial"/>
              </a:rPr>
              <a:t>千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3"/>
          <p:cNvSpPr/>
          <p:nvPr/>
        </p:nvSpPr>
        <p:spPr>
          <a:xfrm>
            <a:off x="277668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Arial"/>
              </a:rPr>
              <a:t>百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4"/>
          <p:cNvSpPr/>
          <p:nvPr/>
        </p:nvSpPr>
        <p:spPr>
          <a:xfrm>
            <a:off x="328140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Arial"/>
              </a:rPr>
              <a:t>十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5"/>
          <p:cNvSpPr/>
          <p:nvPr/>
        </p:nvSpPr>
        <p:spPr>
          <a:xfrm>
            <a:off x="421668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Arial"/>
              </a:rPr>
              <a:t>千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6"/>
          <p:cNvSpPr/>
          <p:nvPr/>
        </p:nvSpPr>
        <p:spPr>
          <a:xfrm>
            <a:off x="472140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Arial"/>
              </a:rPr>
              <a:t>百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7"/>
          <p:cNvSpPr/>
          <p:nvPr/>
        </p:nvSpPr>
        <p:spPr>
          <a:xfrm>
            <a:off x="522468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Arial"/>
              </a:rPr>
              <a:t>十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8"/>
          <p:cNvSpPr/>
          <p:nvPr/>
        </p:nvSpPr>
        <p:spPr>
          <a:xfrm>
            <a:off x="2864160" y="68904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数  位  顺  序  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900000" y="1700280"/>
          <a:ext cx="7413840" cy="151452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487440"/>
                <a:gridCol w="488880"/>
                <a:gridCol w="488880"/>
                <a:gridCol w="488880"/>
                <a:gridCol w="488880"/>
                <a:gridCol w="487440"/>
                <a:gridCol w="488880"/>
                <a:gridCol w="489240"/>
                <a:gridCol w="488880"/>
                <a:gridCol w="488880"/>
                <a:gridCol w="487440"/>
                <a:gridCol w="677880"/>
              </a:tblGrid>
              <a:tr h="151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数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900000" y="3213000"/>
          <a:ext cx="7413840" cy="151308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487440"/>
                <a:gridCol w="488880"/>
                <a:gridCol w="488880"/>
                <a:gridCol w="488880"/>
                <a:gridCol w="488880"/>
                <a:gridCol w="487440"/>
                <a:gridCol w="488880"/>
                <a:gridCol w="489240"/>
                <a:gridCol w="488880"/>
                <a:gridCol w="488880"/>
                <a:gridCol w="487440"/>
                <a:gridCol w="677880"/>
              </a:tblGrid>
              <a:tr h="15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计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单 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一 </a:t>
                      </a:r>
                      <a:r>
                        <a:rPr b="1" lang="zh-CN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（个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Text Box 66"/>
          <p:cNvSpPr/>
          <p:nvPr/>
        </p:nvSpPr>
        <p:spPr>
          <a:xfrm>
            <a:off x="522792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7"/>
          <p:cNvSpPr/>
          <p:nvPr/>
        </p:nvSpPr>
        <p:spPr>
          <a:xfrm>
            <a:off x="472140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8"/>
          <p:cNvSpPr/>
          <p:nvPr/>
        </p:nvSpPr>
        <p:spPr>
          <a:xfrm>
            <a:off x="421668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9"/>
          <p:cNvSpPr/>
          <p:nvPr/>
        </p:nvSpPr>
        <p:spPr>
          <a:xfrm>
            <a:off x="328140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0"/>
          <p:cNvSpPr/>
          <p:nvPr/>
        </p:nvSpPr>
        <p:spPr>
          <a:xfrm>
            <a:off x="277668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1"/>
          <p:cNvSpPr/>
          <p:nvPr/>
        </p:nvSpPr>
        <p:spPr>
          <a:xfrm>
            <a:off x="2273400" y="201888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2"/>
          <p:cNvSpPr/>
          <p:nvPr/>
        </p:nvSpPr>
        <p:spPr>
          <a:xfrm>
            <a:off x="227340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3"/>
          <p:cNvSpPr/>
          <p:nvPr/>
        </p:nvSpPr>
        <p:spPr>
          <a:xfrm>
            <a:off x="277668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4"/>
          <p:cNvSpPr/>
          <p:nvPr/>
        </p:nvSpPr>
        <p:spPr>
          <a:xfrm>
            <a:off x="328140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5"/>
          <p:cNvSpPr/>
          <p:nvPr/>
        </p:nvSpPr>
        <p:spPr>
          <a:xfrm>
            <a:off x="421668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6"/>
          <p:cNvSpPr/>
          <p:nvPr/>
        </p:nvSpPr>
        <p:spPr>
          <a:xfrm>
            <a:off x="472140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7"/>
          <p:cNvSpPr/>
          <p:nvPr/>
        </p:nvSpPr>
        <p:spPr>
          <a:xfrm>
            <a:off x="5224680" y="365220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8"/>
          <p:cNvSpPr/>
          <p:nvPr/>
        </p:nvSpPr>
        <p:spPr>
          <a:xfrm>
            <a:off x="2864160" y="6174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数  位  顺  序  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9.24855E-007 L 0.00399 -0.07884 E">
                                      <p:cBhvr>
                                        <p:cTn id="454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93064E-006 L -0.00018 -0.08208 E">
                                      <p:cBhvr>
                                        <p:cTn id="456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93064E-006 L 0.00017 -0.08208 E">
                                      <p:cBhvr>
                                        <p:cTn id="458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93064E-006 L 0.00017 -0.08208 E">
                                      <p:cBhvr>
                                        <p:cTn id="460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93064E-006 L 0.00017 -0.09249 E">
                                      <p:cBhvr>
                                        <p:cTn id="462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93064E-006 L 0.00018 -0.09249 E">
                                      <p:cBhvr>
                                        <p:cTn id="464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93064E-006 L 0.00017 -0.09249 E">
                                      <p:cBhvr>
                                        <p:cTn id="466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68208E-006 L 0.00399 0.07862 E">
                                      <p:cBhvr>
                                        <p:cTn id="468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62428E-007 L 0.00017 0.06728 E">
                                      <p:cBhvr>
                                        <p:cTn id="470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62428E-007 L 0.00018 0.06728 E">
                                      <p:cBhvr>
                                        <p:cTn id="472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62428E-007 L 0.00017 0.06728 E">
                                      <p:cBhvr>
                                        <p:cTn id="474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62428E-007 L 0.00017 0.07769 E">
                                      <p:cBhvr>
                                        <p:cTn id="476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62428E-007 L 0.00017 0.07769 E">
                                      <p:cBhvr>
                                        <p:cTn id="478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4.62428E-007 L 0.00017 0.07769 E">
                                      <p:cBhvr>
                                        <p:cTn id="480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900000" y="1125360"/>
          <a:ext cx="7413840" cy="151452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487440"/>
                <a:gridCol w="488880"/>
                <a:gridCol w="488880"/>
                <a:gridCol w="488880"/>
                <a:gridCol w="488880"/>
                <a:gridCol w="487440"/>
                <a:gridCol w="488880"/>
                <a:gridCol w="489240"/>
                <a:gridCol w="488880"/>
                <a:gridCol w="488880"/>
                <a:gridCol w="487440"/>
                <a:gridCol w="677880"/>
              </a:tblGrid>
              <a:tr h="151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数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900000" y="3787920"/>
          <a:ext cx="7413840" cy="151272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487440"/>
                <a:gridCol w="488880"/>
                <a:gridCol w="488880"/>
                <a:gridCol w="488880"/>
                <a:gridCol w="488880"/>
                <a:gridCol w="487440"/>
                <a:gridCol w="488880"/>
                <a:gridCol w="489240"/>
                <a:gridCol w="488880"/>
                <a:gridCol w="488880"/>
                <a:gridCol w="487440"/>
                <a:gridCol w="677880"/>
              </a:tblGrid>
              <a:tr h="15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计 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单 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一 </a:t>
                      </a:r>
                      <a:r>
                        <a:rPr b="1" lang="zh-CN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（个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Text Box 66"/>
          <p:cNvSpPr/>
          <p:nvPr/>
        </p:nvSpPr>
        <p:spPr>
          <a:xfrm>
            <a:off x="5227920" y="144576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7"/>
          <p:cNvSpPr/>
          <p:nvPr/>
        </p:nvSpPr>
        <p:spPr>
          <a:xfrm>
            <a:off x="4721400" y="144576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8"/>
          <p:cNvSpPr/>
          <p:nvPr/>
        </p:nvSpPr>
        <p:spPr>
          <a:xfrm>
            <a:off x="4216680" y="144576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万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9"/>
          <p:cNvSpPr/>
          <p:nvPr/>
        </p:nvSpPr>
        <p:spPr>
          <a:xfrm>
            <a:off x="3281400" y="144576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0"/>
          <p:cNvSpPr/>
          <p:nvPr/>
        </p:nvSpPr>
        <p:spPr>
          <a:xfrm>
            <a:off x="2776680" y="144576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1"/>
          <p:cNvSpPr/>
          <p:nvPr/>
        </p:nvSpPr>
        <p:spPr>
          <a:xfrm>
            <a:off x="2273400" y="1445760"/>
            <a:ext cx="4237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亿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2"/>
          <p:cNvSpPr/>
          <p:nvPr/>
        </p:nvSpPr>
        <p:spPr>
          <a:xfrm>
            <a:off x="2273400" y="422712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3"/>
          <p:cNvSpPr/>
          <p:nvPr/>
        </p:nvSpPr>
        <p:spPr>
          <a:xfrm>
            <a:off x="2776680" y="422712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4"/>
          <p:cNvSpPr/>
          <p:nvPr/>
        </p:nvSpPr>
        <p:spPr>
          <a:xfrm>
            <a:off x="3281400" y="422712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5"/>
          <p:cNvSpPr/>
          <p:nvPr/>
        </p:nvSpPr>
        <p:spPr>
          <a:xfrm>
            <a:off x="4216680" y="422712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千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6"/>
          <p:cNvSpPr/>
          <p:nvPr/>
        </p:nvSpPr>
        <p:spPr>
          <a:xfrm>
            <a:off x="4721400" y="422712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百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7"/>
          <p:cNvSpPr/>
          <p:nvPr/>
        </p:nvSpPr>
        <p:spPr>
          <a:xfrm>
            <a:off x="5224680" y="4227120"/>
            <a:ext cx="42372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Arial"/>
              </a:rPr>
              <a:t>十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900000" y="2637000"/>
          <a:ext cx="7413840" cy="1152360"/>
        </p:xfrm>
        <a:graphic>
          <a:graphicData uri="http://schemas.openxmlformats.org/drawingml/2006/table">
            <a:tbl>
              <a:tblPr/>
              <a:tblGrid>
                <a:gridCol w="741600"/>
                <a:gridCol w="620640"/>
                <a:gridCol w="1954080"/>
                <a:gridCol w="1954440"/>
                <a:gridCol w="2143080"/>
              </a:tblGrid>
              <a:tr h="115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数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Text Box 92"/>
          <p:cNvSpPr/>
          <p:nvPr/>
        </p:nvSpPr>
        <p:spPr>
          <a:xfrm>
            <a:off x="6659640" y="2924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个 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3"/>
          <p:cNvSpPr/>
          <p:nvPr/>
        </p:nvSpPr>
        <p:spPr>
          <a:xfrm>
            <a:off x="4572000" y="2924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万 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4"/>
          <p:cNvSpPr/>
          <p:nvPr/>
        </p:nvSpPr>
        <p:spPr>
          <a:xfrm>
            <a:off x="2700360" y="292428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亿 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5"/>
          <p:cNvSpPr/>
          <p:nvPr/>
        </p:nvSpPr>
        <p:spPr>
          <a:xfrm>
            <a:off x="2853720" y="5461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数  位  顺  序  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3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611280" y="184464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99"/>
                </a:solidFill>
                <a:latin typeface="方正少儿简体"/>
                <a:ea typeface="方正少儿简体"/>
              </a:rPr>
              <a:t>每相邻两个计数单位间的进率都是十，这种计数方法叫做十进制计数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863640" y="16495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2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中山大学图书馆累计藏书约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方正少儿简体"/>
                <a:ea typeface="方正少儿简体"/>
              </a:rPr>
              <a:t>4086000</a:t>
            </a:r>
            <a:r>
              <a:rPr b="1" lang="zh-CN" sz="32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826920" y="2441520"/>
            <a:ext cx="75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2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山东省图书馆累计藏书约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方正少儿简体"/>
                <a:ea typeface="方正少儿简体"/>
              </a:rPr>
              <a:t>5094600</a:t>
            </a:r>
            <a:r>
              <a:rPr b="1" lang="zh-CN" sz="32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68360" y="33066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2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中国国家图书馆累计藏书约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方正少儿简体"/>
                <a:ea typeface="方正少儿简体"/>
              </a:rPr>
              <a:t>21600900</a:t>
            </a:r>
            <a:r>
              <a:rPr b="1" lang="zh-CN" sz="32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40734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2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美国国会图书馆累计藏书约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方正少儿简体"/>
                <a:ea typeface="方正少儿简体"/>
              </a:rPr>
              <a:t>119000000</a:t>
            </a:r>
            <a:r>
              <a:rPr b="1" lang="zh-CN" sz="32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85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75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7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5"/>
          <p:cNvSpPr/>
          <p:nvPr/>
        </p:nvSpPr>
        <p:spPr>
          <a:xfrm>
            <a:off x="2771640" y="1836720"/>
            <a:ext cx="712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06</a:t>
            </a:r>
            <a:r>
              <a:rPr b="1" lang="zh-CN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年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方正少儿简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十一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方正少儿简体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黄金周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泰山</a:t>
            </a:r>
            <a:r>
              <a:rPr b="1" lang="zh-CN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接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游客为</a:t>
            </a:r>
            <a:r>
              <a:rPr b="1" lang="en-US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154800</a:t>
            </a:r>
            <a:r>
              <a:rPr b="1" lang="zh-CN" sz="32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人次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2843280" y="350820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门票收入共计</a:t>
            </a:r>
            <a:r>
              <a:rPr b="1" lang="en-US" sz="36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10779000</a:t>
            </a:r>
            <a:r>
              <a:rPr b="1" lang="zh-CN" sz="3600" spc="-1" strike="noStrike">
                <a:solidFill>
                  <a:srgbClr val="ff3300"/>
                </a:solidFill>
                <a:latin typeface="方正少儿简体"/>
                <a:ea typeface="方正少儿简体"/>
              </a:rPr>
              <a:t>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u=2157243155,794122671&amp;gp=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1916280"/>
            <a:ext cx="215244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46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5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WordArt 4"/>
          <p:cNvSpPr txBox="1"/>
          <p:nvPr/>
        </p:nvSpPr>
        <p:spPr>
          <a:xfrm>
            <a:off x="1547640" y="1844640"/>
            <a:ext cx="6337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谢谢大家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再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73080" y="846000"/>
            <a:ext cx="68752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方正少儿简体"/>
              </a:rPr>
              <a:t>据统计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方正少儿简体"/>
              </a:rPr>
              <a:t>,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方正少儿简体"/>
              </a:rPr>
              <a:t>截至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方正少儿简体"/>
              </a:rPr>
              <a:t>2002</a:t>
            </a:r>
            <a:r>
              <a:rPr b="1" lang="zh-CN" sz="3200" spc="-1" strike="noStrike">
                <a:solidFill>
                  <a:srgbClr val="9900cc"/>
                </a:solidFill>
                <a:latin typeface="Arial"/>
                <a:ea typeface="方正少儿简体"/>
              </a:rPr>
              <a:t>年底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  <a:ea typeface="方正少儿简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971640" y="1916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2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中山大学图书馆累计藏书约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方正少儿简体"/>
                <a:ea typeface="方正少儿简体"/>
              </a:rPr>
              <a:t>4086000</a:t>
            </a:r>
            <a:r>
              <a:rPr b="1" lang="zh-CN" sz="32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71640" y="270828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2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山东省图书馆累计藏书约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方正少儿简体"/>
                <a:ea typeface="方正少儿简体"/>
              </a:rPr>
              <a:t>5094600</a:t>
            </a:r>
            <a:r>
              <a:rPr b="1" lang="zh-CN" sz="32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76360" y="357336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2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中国国家图书馆累计藏书约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方正少儿简体"/>
                <a:ea typeface="方正少儿简体"/>
              </a:rPr>
              <a:t>21600900</a:t>
            </a:r>
            <a:r>
              <a:rPr b="1" lang="zh-CN" sz="32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00000" y="43401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◎</a:t>
            </a:r>
            <a:r>
              <a:rPr b="1" lang="zh-CN" sz="32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美国国会图书馆累计藏书约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方正少儿简体"/>
                <a:ea typeface="方正少儿简体"/>
              </a:rPr>
              <a:t>119000000</a:t>
            </a:r>
            <a:r>
              <a:rPr b="1" lang="zh-CN" sz="3200" spc="-1" strike="noStrike">
                <a:solidFill>
                  <a:srgbClr val="0000cc"/>
                </a:solidFill>
                <a:latin typeface="方正少儿简体"/>
                <a:ea typeface="方正少儿简体"/>
              </a:rPr>
              <a:t>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4"/>
          <p:cNvPicPr/>
          <p:nvPr/>
        </p:nvPicPr>
        <p:blipFill>
          <a:blip r:embed="rId2"/>
          <a:stretch/>
        </p:blipFill>
        <p:spPr>
          <a:xfrm>
            <a:off x="179280" y="1268280"/>
            <a:ext cx="13543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45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7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2448000" cy="152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111"/>
          <p:cNvPicPr/>
          <p:nvPr/>
        </p:nvPicPr>
        <p:blipFill>
          <a:blip r:embed="rId3"/>
          <a:stretch/>
        </p:blipFill>
        <p:spPr>
          <a:xfrm>
            <a:off x="5003640" y="1413000"/>
            <a:ext cx="3241800" cy="252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4"/>
          <a:stretch/>
        </p:blipFill>
        <p:spPr>
          <a:xfrm>
            <a:off x="6156360" y="2349360"/>
            <a:ext cx="26496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5"/>
          <a:stretch/>
        </p:blipFill>
        <p:spPr>
          <a:xfrm>
            <a:off x="6372360" y="2349360"/>
            <a:ext cx="288720" cy="107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6"/>
          <a:stretch/>
        </p:blipFill>
        <p:spPr>
          <a:xfrm>
            <a:off x="6659640" y="2349360"/>
            <a:ext cx="28872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7"/>
          <a:stretch/>
        </p:blipFill>
        <p:spPr>
          <a:xfrm>
            <a:off x="6899400" y="2349360"/>
            <a:ext cx="264960" cy="107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8"/>
          <a:stretch/>
        </p:blipFill>
        <p:spPr>
          <a:xfrm>
            <a:off x="7115040" y="2349360"/>
            <a:ext cx="265320" cy="1079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9"/>
          <a:stretch/>
        </p:blipFill>
        <p:spPr>
          <a:xfrm>
            <a:off x="7380360" y="2349360"/>
            <a:ext cx="264960" cy="1079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10"/>
          <a:stretch/>
        </p:blipFill>
        <p:spPr>
          <a:xfrm>
            <a:off x="7596360" y="2349360"/>
            <a:ext cx="264960" cy="1079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"/>
          <p:cNvPicPr/>
          <p:nvPr/>
        </p:nvPicPr>
        <p:blipFill>
          <a:blip r:embed="rId11">
            <a:lum bright="24000"/>
          </a:blip>
          <a:stretch/>
        </p:blipFill>
        <p:spPr>
          <a:xfrm rot="360000">
            <a:off x="5722560" y="2352600"/>
            <a:ext cx="287280" cy="1082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"/>
          <p:cNvPicPr/>
          <p:nvPr/>
        </p:nvPicPr>
        <p:blipFill>
          <a:blip r:embed="rId12"/>
          <a:stretch/>
        </p:blipFill>
        <p:spPr>
          <a:xfrm rot="447600">
            <a:off x="5519520" y="2349360"/>
            <a:ext cx="222120" cy="107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"/>
          <p:cNvPicPr/>
          <p:nvPr/>
        </p:nvPicPr>
        <p:blipFill>
          <a:blip r:embed="rId13"/>
          <a:stretch/>
        </p:blipFill>
        <p:spPr>
          <a:xfrm rot="259200">
            <a:off x="5951520" y="2347920"/>
            <a:ext cx="255600" cy="1079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4"/>
          <p:cNvSpPr/>
          <p:nvPr/>
        </p:nvSpPr>
        <p:spPr>
          <a:xfrm>
            <a:off x="785880" y="4154400"/>
            <a:ext cx="23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</a:rPr>
              <a:t>小盒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1000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5394240" y="4221000"/>
            <a:ext cx="25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</a:rPr>
              <a:t>大盒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10000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2"/>
          <p:cNvSpPr/>
          <p:nvPr/>
        </p:nvSpPr>
        <p:spPr>
          <a:xfrm>
            <a:off x="3041640" y="5157720"/>
            <a:ext cx="341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</a:rPr>
              <a:t>大盒就是十万个订书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4" descr="222"/>
          <p:cNvPicPr/>
          <p:nvPr/>
        </p:nvPicPr>
        <p:blipFill>
          <a:blip r:embed="rId2"/>
          <a:stretch/>
        </p:blipFill>
        <p:spPr>
          <a:xfrm>
            <a:off x="3492360" y="3719520"/>
            <a:ext cx="2232000" cy="1093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222"/>
          <p:cNvPicPr/>
          <p:nvPr/>
        </p:nvPicPr>
        <p:blipFill>
          <a:blip r:embed="rId3"/>
          <a:stretch/>
        </p:blipFill>
        <p:spPr>
          <a:xfrm>
            <a:off x="3492360" y="3429000"/>
            <a:ext cx="2232000" cy="1093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6" descr="222"/>
          <p:cNvPicPr/>
          <p:nvPr/>
        </p:nvPicPr>
        <p:blipFill>
          <a:blip r:embed="rId4"/>
          <a:stretch/>
        </p:blipFill>
        <p:spPr>
          <a:xfrm>
            <a:off x="3492360" y="3141720"/>
            <a:ext cx="2232000" cy="1093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222"/>
          <p:cNvPicPr/>
          <p:nvPr/>
        </p:nvPicPr>
        <p:blipFill>
          <a:blip r:embed="rId5"/>
          <a:stretch/>
        </p:blipFill>
        <p:spPr>
          <a:xfrm>
            <a:off x="3492360" y="2852640"/>
            <a:ext cx="2232000" cy="1094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222"/>
          <p:cNvPicPr/>
          <p:nvPr/>
        </p:nvPicPr>
        <p:blipFill>
          <a:blip r:embed="rId6"/>
          <a:stretch/>
        </p:blipFill>
        <p:spPr>
          <a:xfrm>
            <a:off x="3492360" y="2565360"/>
            <a:ext cx="2232000" cy="1093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222"/>
          <p:cNvPicPr/>
          <p:nvPr/>
        </p:nvPicPr>
        <p:blipFill>
          <a:blip r:embed="rId7"/>
          <a:stretch/>
        </p:blipFill>
        <p:spPr>
          <a:xfrm>
            <a:off x="3492360" y="2276640"/>
            <a:ext cx="2232000" cy="1093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222"/>
          <p:cNvPicPr/>
          <p:nvPr/>
        </p:nvPicPr>
        <p:blipFill>
          <a:blip r:embed="rId8"/>
          <a:stretch/>
        </p:blipFill>
        <p:spPr>
          <a:xfrm>
            <a:off x="3492360" y="1989000"/>
            <a:ext cx="2232000" cy="1094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222"/>
          <p:cNvPicPr/>
          <p:nvPr/>
        </p:nvPicPr>
        <p:blipFill>
          <a:blip r:embed="rId9"/>
          <a:stretch/>
        </p:blipFill>
        <p:spPr>
          <a:xfrm>
            <a:off x="3492360" y="1701720"/>
            <a:ext cx="2232000" cy="1094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2" descr="222"/>
          <p:cNvPicPr/>
          <p:nvPr/>
        </p:nvPicPr>
        <p:blipFill>
          <a:blip r:embed="rId10"/>
          <a:stretch/>
        </p:blipFill>
        <p:spPr>
          <a:xfrm>
            <a:off x="3492360" y="1413000"/>
            <a:ext cx="2232000" cy="1093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3" descr="222"/>
          <p:cNvPicPr/>
          <p:nvPr/>
        </p:nvPicPr>
        <p:blipFill>
          <a:blip r:embed="rId11"/>
          <a:stretch/>
        </p:blipFill>
        <p:spPr>
          <a:xfrm>
            <a:off x="3492360" y="1125360"/>
            <a:ext cx="2232000" cy="10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8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763640" y="4221000"/>
            <a:ext cx="5256360" cy="863640"/>
          </a:xfrm>
          <a:prstGeom prst="rect">
            <a:avLst/>
          </a:prstGeom>
          <a:solidFill>
            <a:srgbClr val="e8a0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6229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43672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4533480" y="4508640"/>
            <a:ext cx="5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781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2916360" y="443700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212544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>
            <a:off x="3154320" y="1052640"/>
            <a:ext cx="2844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>
            <a:off x="23400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2916360" y="393372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>
            <a:off x="39988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>
            <a:off x="48132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562932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>
            <a:off x="64450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6"/>
          <p:cNvSpPr/>
          <p:nvPr/>
        </p:nvSpPr>
        <p:spPr>
          <a:xfrm>
            <a:off x="2916360" y="365436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7"/>
          <p:cNvSpPr/>
          <p:nvPr/>
        </p:nvSpPr>
        <p:spPr>
          <a:xfrm>
            <a:off x="2916360" y="336564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8"/>
          <p:cNvSpPr/>
          <p:nvPr/>
        </p:nvSpPr>
        <p:spPr>
          <a:xfrm>
            <a:off x="2916360" y="307800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9"/>
          <p:cNvSpPr/>
          <p:nvPr/>
        </p:nvSpPr>
        <p:spPr>
          <a:xfrm>
            <a:off x="2916360" y="278928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0"/>
          <p:cNvSpPr/>
          <p:nvPr/>
        </p:nvSpPr>
        <p:spPr>
          <a:xfrm>
            <a:off x="2916360" y="250200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1"/>
          <p:cNvSpPr/>
          <p:nvPr/>
        </p:nvSpPr>
        <p:spPr>
          <a:xfrm>
            <a:off x="2916360" y="221472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2"/>
          <p:cNvSpPr/>
          <p:nvPr/>
        </p:nvSpPr>
        <p:spPr>
          <a:xfrm>
            <a:off x="2916360" y="192708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3"/>
          <p:cNvSpPr/>
          <p:nvPr/>
        </p:nvSpPr>
        <p:spPr>
          <a:xfrm>
            <a:off x="2916360" y="163836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4"/>
          <p:cNvSpPr/>
          <p:nvPr/>
        </p:nvSpPr>
        <p:spPr>
          <a:xfrm>
            <a:off x="2916360" y="109872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5244 E">
                                      <p:cBhvr>
                                        <p:cTn id="25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79769E-006 L -4.16667E-006 -0.48393 E">
                                      <p:cBhvr>
                                        <p:cTn id="260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87283E-006 L -4.16667E-006 -0.44185 E">
                                      <p:cBhvr>
                                        <p:cTn id="26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L -4.16667E-006 -0.4 E">
                                      <p:cBhvr>
                                        <p:cTn id="26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23699E-006 L -4.16667E-006 -0.35792 E">
                                      <p:cBhvr>
                                        <p:cTn id="26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52601E-006 L -4.16667E-006 -0.31607 E">
                                      <p:cBhvr>
                                        <p:cTn id="268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81503E-006 L -4.16667E-006 -0.27422 E">
                                      <p:cBhvr>
                                        <p:cTn id="27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0405E-006 L -4.16667E-006 -0.23237 E">
                                      <p:cBhvr>
                                        <p:cTn id="272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17919E-006 L -4.16667E-006 -0.19029 E">
                                      <p:cBhvr>
                                        <p:cTn id="274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62428E-007 L -4.16667E-006 -0.11168 E">
                                      <p:cBhvr>
                                        <p:cTn id="27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763640" y="4221000"/>
            <a:ext cx="5256360" cy="863640"/>
          </a:xfrm>
          <a:prstGeom prst="rect">
            <a:avLst/>
          </a:prstGeom>
          <a:solidFill>
            <a:srgbClr val="e8a0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229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43672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4533480" y="4508640"/>
            <a:ext cx="5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781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2916360" y="4437000"/>
            <a:ext cx="5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212544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3154320" y="1052640"/>
            <a:ext cx="2844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23400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1"/>
          <p:cNvSpPr/>
          <p:nvPr/>
        </p:nvSpPr>
        <p:spPr>
          <a:xfrm>
            <a:off x="39988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"/>
          <p:cNvSpPr/>
          <p:nvPr/>
        </p:nvSpPr>
        <p:spPr>
          <a:xfrm>
            <a:off x="48132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3"/>
          <p:cNvSpPr/>
          <p:nvPr/>
        </p:nvSpPr>
        <p:spPr>
          <a:xfrm>
            <a:off x="562932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4"/>
          <p:cNvSpPr/>
          <p:nvPr/>
        </p:nvSpPr>
        <p:spPr>
          <a:xfrm>
            <a:off x="64450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5"/>
          <p:cNvSpPr/>
          <p:nvPr/>
        </p:nvSpPr>
        <p:spPr>
          <a:xfrm>
            <a:off x="2916360" y="33336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4.62428E-006 L -0.04531 4.62428E-006 C -0.06562 4.62428E-006 -0.09045 0.14427 -0.09045 0.26196 L -0.09045 0.52416 E">
                                      <p:cBhvr>
                                        <p:cTn id="28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1547640" y="4221000"/>
            <a:ext cx="6048720" cy="863640"/>
          </a:xfrm>
          <a:prstGeom prst="rect">
            <a:avLst/>
          </a:prstGeom>
          <a:solidFill>
            <a:srgbClr val="e8a06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91308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604980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5109480" y="4508640"/>
            <a:ext cx="5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393800" y="4437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527280" y="443700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273672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9"/>
          <p:cNvSpPr/>
          <p:nvPr/>
        </p:nvSpPr>
        <p:spPr>
          <a:xfrm>
            <a:off x="2938320" y="1052640"/>
            <a:ext cx="2880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212400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1"/>
          <p:cNvSpPr/>
          <p:nvPr/>
        </p:nvSpPr>
        <p:spPr>
          <a:xfrm>
            <a:off x="2700360" y="393372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37828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459756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4"/>
          <p:cNvSpPr/>
          <p:nvPr/>
        </p:nvSpPr>
        <p:spPr>
          <a:xfrm>
            <a:off x="541332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5"/>
          <p:cNvSpPr/>
          <p:nvPr/>
        </p:nvSpPr>
        <p:spPr>
          <a:xfrm>
            <a:off x="622944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6"/>
          <p:cNvSpPr/>
          <p:nvPr/>
        </p:nvSpPr>
        <p:spPr>
          <a:xfrm>
            <a:off x="2700360" y="365436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7"/>
          <p:cNvSpPr/>
          <p:nvPr/>
        </p:nvSpPr>
        <p:spPr>
          <a:xfrm>
            <a:off x="2700360" y="336564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8"/>
          <p:cNvSpPr/>
          <p:nvPr/>
        </p:nvSpPr>
        <p:spPr>
          <a:xfrm>
            <a:off x="2700360" y="307800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9"/>
          <p:cNvSpPr/>
          <p:nvPr/>
        </p:nvSpPr>
        <p:spPr>
          <a:xfrm>
            <a:off x="2700360" y="278928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0"/>
          <p:cNvSpPr/>
          <p:nvPr/>
        </p:nvSpPr>
        <p:spPr>
          <a:xfrm>
            <a:off x="2700360" y="250200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21"/>
          <p:cNvSpPr/>
          <p:nvPr/>
        </p:nvSpPr>
        <p:spPr>
          <a:xfrm>
            <a:off x="2700360" y="221472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2"/>
          <p:cNvSpPr/>
          <p:nvPr/>
        </p:nvSpPr>
        <p:spPr>
          <a:xfrm>
            <a:off x="2700360" y="1927080"/>
            <a:ext cx="503280" cy="289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3"/>
          <p:cNvSpPr/>
          <p:nvPr/>
        </p:nvSpPr>
        <p:spPr>
          <a:xfrm>
            <a:off x="2700360" y="163836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4"/>
          <p:cNvSpPr/>
          <p:nvPr/>
        </p:nvSpPr>
        <p:spPr>
          <a:xfrm>
            <a:off x="2700360" y="1098720"/>
            <a:ext cx="503280" cy="28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5"/>
          <p:cNvSpPr/>
          <p:nvPr/>
        </p:nvSpPr>
        <p:spPr>
          <a:xfrm>
            <a:off x="7093080" y="1052640"/>
            <a:ext cx="0" cy="31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1908000" y="41497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5244 E">
                                      <p:cBhvr>
                                        <p:cTn id="34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79769E-006 L -4.16667E-006 -0.48393 E">
                                      <p:cBhvr>
                                        <p:cTn id="350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87283E-006 L -4.16667E-006 -0.44185 E">
                                      <p:cBhvr>
                                        <p:cTn id="352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6185E-006 L -4.16667E-006 -0.4 E">
                                      <p:cBhvr>
                                        <p:cTn id="354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23699E-006 L -4.16667E-006 -0.35792 E">
                                      <p:cBhvr>
                                        <p:cTn id="356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52601E-006 L -4.16667E-006 -0.31607 E">
                                      <p:cBhvr>
                                        <p:cTn id="358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81503E-006 L -4.16667E-006 -0.27422 E">
                                      <p:cBhvr>
                                        <p:cTn id="360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10405E-006 L -4.16667E-006 -0.23237 E">
                                      <p:cBhvr>
                                        <p:cTn id="362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17919E-006 L -4.16667E-006 -0.19029 E">
                                      <p:cBhvr>
                                        <p:cTn id="364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62428E-007 L -4.16667E-006 -0.11168 E">
                                      <p:cBhvr>
                                        <p:cTn id="36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00:10:33Z</dcterms:created>
  <dc:creator/>
  <dc:description/>
  <cp:keywords/>
  <dc:language>en-US</dc:language>
  <cp:lastModifiedBy>Administrator</cp:lastModifiedBy>
  <dcterms:modified xsi:type="dcterms:W3CDTF">2015-02-20T17:02:33Z</dcterms:modified>
  <cp:revision>163</cp:revision>
  <dc:subject/>
  <dc:title>幻灯片 1</dc:title>
</cp:coreProperties>
</file>